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gif" ContentType="image/gif"/>
  <Override PartName="/ppt/media/image9.wmf" ContentType="image/x-wmf"/>
  <Override PartName="/ppt/media/image7.gif" ContentType="image/gif"/>
  <Override PartName="/ppt/media/image8.png" ContentType="image/png"/>
  <Override PartName="/ppt/media/image12.wmf" ContentType="image/x-wmf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4CD1-AC89-483C-A622-55F0DC43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23C-AFA1-4AEC-829C-B41CC31D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72AE-354C-4AAE-B930-0D573D8F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221-B48F-40E3-8C1F-9B5D9CC0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4D015-85E4-4D7A-B355-31507864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6F954-0C11-468E-8B31-9374A395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DCE5D-A483-4668-95F4-58C0C3B0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0A6C1-ABE7-4558-B12E-6086574B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AE7CE-DD1A-40D0-83DD-F720E2EA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D3680-C02A-4BB1-85EE-A6FE5527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8C7B3-6DDA-425B-92F4-50151AC0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0BF2-4E84-49A3-989B-327A40BB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54DD5-2A1D-4620-A933-0E518327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2548F-E759-45B8-BF20-A299CBE4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153B7-FD63-4DBE-A95D-EE2CAB9C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D3867-BA17-417B-B482-67128793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E066D-24F6-4DD8-B381-528A3452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2E95-2B06-4F97-98E4-AF1D7806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07B-6E25-4096-953F-3377F9BB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E241-823A-4C82-B4E8-5DBFF3A1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3B8B-99C1-4F7C-B8F9-8B2DD0C9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F2E-5313-40AE-9D85-93A3DD79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3C0-97D6-4FA8-A225-AB5D7D04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75F-1EE4-4856-9FB3-648B85D5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561C-4195-4E71-88D5-16A7FAB6DE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E62F-8281-4A9B-8B07-3C42B9C752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lar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look at angri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g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sta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sml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26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780160" y="2817720"/>
            <a:ext cx="200016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to take up with tip of the tong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drin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e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88080" y="2957400"/>
            <a:ext cx="175896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eck ou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sign out and ta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bo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stee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 check-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Che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470560" y="3218040"/>
            <a:ext cx="2397240" cy="14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orytell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person tells stor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re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:ign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check.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che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26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862600" y="2743200"/>
            <a:ext cx="1933560" cy="219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rr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inition: to take something with perish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onyms: ta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onym: ste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llable: b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 word: r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lection : 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brar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age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tion: exited and nerv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nonyms: hap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onyms: m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llable: re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 word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ection: 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391520" y="990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5398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tter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to talk foolsh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tal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mu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 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 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19920" y="2971800"/>
            <a:ext cx="149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br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spanish word for b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b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magaz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li.b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li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b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1000080" cy="1238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343400" y="2133360"/>
            <a:ext cx="4038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acias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Spanish word for thank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thank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he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 grac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 gra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 i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59280" y="2168640"/>
            <a:ext cx="1814760" cy="1452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867280" y="3657600"/>
            <a:ext cx="15876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di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spanish word for good by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good by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he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 ad.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 ad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 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4120" y="2362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lab</cp:lastModifiedBy>
  <dcterms:modified xsi:type="dcterms:W3CDTF">2008-12-04T22:31:57Z</dcterms:modified>
  <cp:revision>8</cp:revision>
  <dc:subject/>
  <dc:title>PowerPoint Presentation</dc:title>
</cp:coreProperties>
</file>